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0196-52AC-4731-B207-0E530A0E5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C001-5D7E-4582-B0ED-B2266E832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7AB7-8934-4338-B119-88BF9D787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4E20-C8C5-46EF-8B02-742FE27B8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81EB-93F4-4AEA-BA8D-3A79A04D1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146-4F58-447D-B351-F304BD4C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456-564A-4C98-AF84-D229DBFD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826-03AA-486B-A4FB-D2A042E1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F79-DC6E-4282-9952-0D7E0C14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135-1B95-4953-A85B-51CE312D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22D-870F-4E69-9174-D2F3F6E0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60B-3E4B-4236-890F-B172A874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A1F-3BDF-4643-97CC-41F65B3F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B38-E735-48E5-8A73-20EAF572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240-C41E-4EA7-B3CF-64992BAD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AC8-1E24-448F-9069-A24DA919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3C5-37B5-45D2-A8D6-DA87C587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ECF5-69D5-4A0F-BAF8-E7E2D3B29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TEL LIFE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Hotel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504d"/>
                </a:solidFill>
                <a:uFillTx/>
                <a:latin typeface="Calibri"/>
              </a:rPr>
              <a:t>Years</a:t>
            </a:r>
            <a:r>
              <a:rPr b="1" lang="en-US" sz="2600" spc="-1" strike="noStrike" u="sng">
                <a:solidFill>
                  <a:srgbClr val="c0504d"/>
                </a:solidFill>
                <a:uFillTx/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 u="sng">
                <a:solidFill>
                  <a:srgbClr val="c0504d"/>
                </a:solidFill>
                <a:uFillTx/>
                <a:latin typeface="Calibri"/>
              </a:rPr>
              <a:t>Occupancy &amp; Inc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0 – 2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Introduction to market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2 – 4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Occupancy rises slow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4 – 5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Gradual increases in inco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5 – 7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Stabilized income lev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7 – 10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c0504d"/>
                </a:solidFill>
                <a:latin typeface="Calibri"/>
              </a:rPr>
              <a:t>Decline due to deterioration &amp; obsolesc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Calibri"/>
              </a:rPr>
              <a:t>Lifecycles can be lengthened based on maintenance &amp; upgr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45720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Hotel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411120" y="1481040"/>
          <a:ext cx="8616960" cy="525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481040"/>
                    <a:ext cx="8616960" cy="525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WordArt 4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Value per Hotel 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Object 2"/>
          <p:cNvGraphicFramePr/>
          <p:nvPr/>
        </p:nvGraphicFramePr>
        <p:xfrm>
          <a:off x="228600" y="1481040"/>
          <a:ext cx="8799480" cy="525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81040"/>
                    <a:ext cx="8799480" cy="525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WordArt 4"/>
          <p:cNvSpPr txBox="1"/>
          <p:nvPr/>
        </p:nvSpPr>
        <p:spPr>
          <a:xfrm>
            <a:off x="533520" y="91440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Line 5"/>
          <p:cNvSpPr/>
          <p:nvPr/>
        </p:nvSpPr>
        <p:spPr>
          <a:xfrm flipV="1">
            <a:off x="2590920" y="2743200"/>
            <a:ext cx="0" cy="13716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6"/>
          <p:cNvSpPr/>
          <p:nvPr/>
        </p:nvSpPr>
        <p:spPr>
          <a:xfrm flipV="1">
            <a:off x="4419720" y="4267080"/>
            <a:ext cx="0" cy="137160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5334120" y="5181480"/>
            <a:ext cx="0" cy="609840"/>
          </a:xfrm>
          <a:prstGeom prst="line">
            <a:avLst/>
          </a:prstGeom>
          <a:ln w="63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8"/>
          <p:cNvSpPr/>
          <p:nvPr/>
        </p:nvSpPr>
        <p:spPr>
          <a:xfrm flipV="1">
            <a:off x="6248520" y="5181480"/>
            <a:ext cx="0" cy="609840"/>
          </a:xfrm>
          <a:prstGeom prst="line">
            <a:avLst/>
          </a:prstGeom>
          <a:ln w="63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276720" y="4038480"/>
            <a:ext cx="53316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Calibri"/>
              </a:rPr>
              <a:t>Hotel Expen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0093"/>
                </a:solidFill>
                <a:latin typeface="Calibri"/>
              </a:rPr>
              <a:t>Rooms Divi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0093"/>
                </a:solidFill>
                <a:latin typeface="Calibri"/>
              </a:rPr>
              <a:t>Food &amp; Beve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533520" y="6094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71600" y="1384200"/>
          <a:ext cx="6477120" cy="2274840"/>
        </p:xfrm>
        <a:graphic>
          <a:graphicData uri="http://schemas.openxmlformats.org/drawingml/2006/table">
            <a:tbl>
              <a:tblPr/>
              <a:tblGrid>
                <a:gridCol w="3505320"/>
                <a:gridCol w="297180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d60093"/>
                          </a:solidFill>
                          <a:uFillTx/>
                          <a:latin typeface="Times New Roman"/>
                        </a:rPr>
                        <a:t>Catego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d60093"/>
                          </a:solidFill>
                          <a:uFillTx/>
                          <a:latin typeface="Times New Roman"/>
                        </a:rPr>
                        <a:t>Percent of Expens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Salaries &amp; wag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50 – 7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Employee benefi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5 – 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Laund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7 – 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Suppl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1 - 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295280" y="4508640"/>
          <a:ext cx="6477120" cy="2274840"/>
        </p:xfrm>
        <a:graphic>
          <a:graphicData uri="http://schemas.openxmlformats.org/drawingml/2006/table">
            <a:tbl>
              <a:tblPr/>
              <a:tblGrid>
                <a:gridCol w="3581640"/>
                <a:gridCol w="28954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d60093"/>
                          </a:solidFill>
                          <a:uFillTx/>
                          <a:latin typeface="Times New Roman"/>
                        </a:rPr>
                        <a:t>Catego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d60093"/>
                          </a:solidFill>
                          <a:uFillTx/>
                          <a:latin typeface="Times New Roman"/>
                        </a:rPr>
                        <a:t>Percent of Expens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Food cos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35 – 4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Beverage sa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20 – 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Salaries &amp; wag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25 – 3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Employee benefi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0504d"/>
                          </a:solidFill>
                          <a:latin typeface="Times New Roman"/>
                        </a:rPr>
                        <a:t>2 - 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-228600"/>
            <a:ext cx="721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Income Calc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533520" y="6094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514600" y="5715000"/>
            <a:ext cx="403848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Times New Roman"/>
              </a:rPr>
              <a:t>Departmental Expenses = 3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Times New Roman"/>
              </a:rPr>
              <a:t>Operating Expenses = 2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Times New Roman"/>
              </a:rPr>
              <a:t>Fixed Charges Expense = 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Object 2"/>
          <p:cNvGraphicFramePr/>
          <p:nvPr/>
        </p:nvGraphicFramePr>
        <p:xfrm>
          <a:off x="1295280" y="1046160"/>
          <a:ext cx="6172200" cy="45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046160"/>
                    <a:ext cx="617220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What Makes a Hotel Profitab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Profits = Income before capital reserve, rent, debt service, income taxes, depreciation and amortiz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Hotels that have higher profit margi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Are smal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Rely less on Food &amp; Bevera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Able to control departmental expen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533520" y="8380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Controlling Labor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Payroll &amp; Benefit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= </a:t>
            </a:r>
            <a:r>
              <a:rPr b="0" lang="en-US" sz="2600" spc="-1" strike="noStrike">
                <a:solidFill>
                  <a:srgbClr val="d60093"/>
                </a:solidFill>
                <a:latin typeface="Calibri"/>
              </a:rPr>
              <a:t>64%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 of rooms department expen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= </a:t>
            </a:r>
            <a:r>
              <a:rPr b="0" lang="en-US" sz="2600" spc="-1" strike="noStrike">
                <a:solidFill>
                  <a:srgbClr val="d60093"/>
                </a:solidFill>
                <a:latin typeface="Calibri"/>
              </a:rPr>
              <a:t>43%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 of total operating expen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= </a:t>
            </a:r>
            <a:r>
              <a:rPr b="0" lang="en-US" sz="2600" spc="-1" strike="noStrike">
                <a:solidFill>
                  <a:srgbClr val="d60093"/>
                </a:solidFill>
                <a:latin typeface="Calibri"/>
              </a:rPr>
              <a:t>33%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 of total reven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Growth of hotel revenues is virtually identical to the growth of labor cos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(Correlation coefficient of 0.992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60093"/>
                </a:solidFill>
                <a:latin typeface="Calibri"/>
              </a:rPr>
              <a:t>Ways to control lab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1.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Adjust staff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2.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Calibri"/>
              </a:rPr>
              <a:t>Adjust salaries &amp; w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533520" y="6094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Franchise Fe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Franchise fees are the 2</a:t>
            </a:r>
            <a:r>
              <a:rPr b="0" lang="en-US" sz="2800" spc="-1" strike="noStrike" baseline="30000">
                <a:solidFill>
                  <a:srgbClr val="d60093"/>
                </a:solidFill>
                <a:latin typeface="Calibri"/>
              </a:rPr>
              <a:t>nd</a:t>
            </a: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 larg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Calibri"/>
              </a:rPr>
              <a:t>operating expense after payro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533520" y="609480"/>
            <a:ext cx="8001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______________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2" name="Object 2"/>
          <p:cNvGraphicFramePr/>
          <p:nvPr/>
        </p:nvGraphicFramePr>
        <p:xfrm>
          <a:off x="147600" y="2438280"/>
          <a:ext cx="419904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2438280"/>
                    <a:ext cx="41990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"/>
          <p:cNvGraphicFramePr/>
          <p:nvPr/>
        </p:nvGraphicFramePr>
        <p:xfrm>
          <a:off x="4876920" y="2438280"/>
          <a:ext cx="4267080" cy="419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438280"/>
                    <a:ext cx="42670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02:24:45Z</dcterms:created>
  <dc:creator>robert</dc:creator>
  <dc:description/>
  <dc:language>en-US</dc:language>
  <cp:lastModifiedBy>robert</cp:lastModifiedBy>
  <dcterms:modified xsi:type="dcterms:W3CDTF">2011-04-14T02:38:20Z</dcterms:modified>
  <cp:revision>2</cp:revision>
  <dc:subject/>
  <dc:title>HOTEL LIFE CYCLE</dc:title>
</cp:coreProperties>
</file>